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3A3-6B11-4894-941A-6C965F8F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F70-601A-4BBF-876D-7D5F6D04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AA1A8-3653-4ACE-B173-24B0CFD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794F6-8FD0-4FB9-B929-132FCE54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76CC1-5EC1-451B-8D0A-6E33D20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3A31F-F703-4E65-8D76-40550D3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8C641-6F4B-4CB4-BD06-A8F01A3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36813-FE58-4018-9A36-3CF0425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3EF6-5772-4DFB-A844-0154BA3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F0F57-0E0C-4F6A-B2BE-25BCF71C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C5336-7DB2-4FB4-B03D-47860640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1AD2-7C57-4437-8294-902EF7AB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746-BF90-4FCA-852B-1A68F45F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4AF5D-0609-4243-9E39-7D6FFF4D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6F34F-6D63-4F8E-BBD6-B7D2C29A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37A8-ABB0-4247-AC17-CBE5713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214C5-CE06-4B1B-BF92-CCF17409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7EA2-15FF-4ECF-95E9-2E4394C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A5EE8-02F8-4800-9416-22566C3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0E574-E84B-46AB-B289-934C3EEC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706E-7917-4729-A1CA-67A1F57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B49BF-0484-4AD5-9FE5-5090860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04DE-273A-48E0-8632-E07A6950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23E-4A46-4170-8DBB-1C7D2F84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356D-F915-4D7D-AD49-5FEEAEE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4E3DFC-D603-4CC0-B3CC-704D905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DA1B29-47D4-4723-91DB-6DFB6AA6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97BA39-325D-4E0C-B5BC-9C52F85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322730-B6FB-46C5-BED6-45E2CB30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8D2313-036A-4F30-ADF4-AB4DAA7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80E426-FC48-4C53-8A32-390CC4B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F2745-524A-4121-841C-A1645CD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A0CBB-1FEC-476F-ACF7-3AD5E8C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26958B-BAA2-47C5-8D9A-0F02F93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D82A5-852C-4C03-8078-C11A8F74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B6C2F2-5E53-459C-A58E-62FC1EE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51E28D-496C-4C5F-9651-050B87FF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6905F7-2D71-4037-9C0A-03B1EBC4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A1C7D-4677-4887-BC47-63BAFD5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C323C-5C65-4C0C-B9D1-D6EA0B8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ACC13-71C6-4AFC-AD1C-460CD21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672D9-F568-4EA5-8608-984B62B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54A2-45C3-4B35-A143-BF073B4D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08E91-5C2D-44AF-8866-23E2E55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130B5-FC24-45BB-89D1-A3B630A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A8EB-A07F-428C-BF7B-D56B5BD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4B18E-F334-4315-85EC-F2D2F3D9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4C77D-A4A8-468C-84AB-2924D2B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5CD17-0A15-41B0-B814-0CB4E89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A6B83-C173-4915-BC5D-F304EAEB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E356-4A03-4284-BC96-D7BF61F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1ABAB-4B75-4EA3-9950-1F062BCB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4DCB5-D3B9-4DA5-B170-C747A75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85E12-DDA6-40E4-8BB5-12840164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2B9C8-A21A-4814-B09A-F17C6A0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775C2-51C9-4F97-B4DA-46AE2AA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54C6F-E146-49A5-BF07-5C6F5E89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A0905-2936-400D-A70B-DE66FF0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3B733-F023-4D94-8351-B3AF1B7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62BE9-769C-4CBE-8F70-55CB612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D79C4-F60A-4ABB-95E5-97BA5789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3B3EB-627B-43D1-9E37-66D04B6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7515D-7142-4C2A-8C8D-337357E8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E9A8B-A220-467A-880E-E4A5109B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86945-70BA-4880-9ED0-A55497C2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57913-C9F1-4C8F-9B3B-ABE3F9D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7C5BB-874B-4DFF-98D3-4940BC4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B95CB-B871-4A5C-8021-F063BA9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8F994-5CB8-4018-9C90-35AB4E3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7FB2B-E595-4477-A3FB-F2CE046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F0C69-4755-492C-AD22-532E957D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773D3-F81E-4EF8-8906-7C8EC3A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F43DE-2E07-4C69-B9C2-1CAD32A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62B62-7C05-4913-BEC0-D12E059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6AF26-DA1D-4166-BBF7-D28DEC0A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65917-61EF-4AE2-9ADF-F2E73FC8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D26C8-72E4-4290-BEA8-1282C088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71633-0610-47D4-A474-88359620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E39B-A627-468D-A76A-D254E2D9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24F02-000A-4D51-A922-539BB70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56B59-12E8-4067-B92B-A31529D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F4FBF-E471-49B8-BD35-232D9B58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BB683-09F8-4740-9E16-E9F01CD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157EA-9E14-4A32-B7B7-DEF1ED3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31257-D7A7-41F5-A00B-7A79D5C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41A93-26C2-4A4E-AB53-9267157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1ABC1-1C5C-42BB-9B1D-291EBA2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F16B4-D862-460D-ACC0-4C3BBA92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577C1-8E9E-495A-BD59-CFDCCAAC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DA2B-C94F-4B7A-9E18-F58C007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69B4A-DD20-4D50-9F06-C87A076A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99A61-3537-41A9-A9FB-D8E6136F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F9CB6-A189-4602-8CE2-798D4FAB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3AF44-5D0D-4863-B071-DADFAB1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2B05B-8EA6-405D-B891-741960BA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FF8E9-2004-45D0-A0E3-62EC86F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DA0F6-F052-4A11-9FD0-96399AB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AE7D8-62D8-4C47-981E-C1E362D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03F92-4647-4BAF-B7F1-8BFC64D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6711C-15B2-43D4-BBCF-76A7739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9B8B2-9E9A-4480-B47E-D2CA087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65C69-9E65-4C94-A100-7051752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B9BEA-F977-4B78-975C-FE54E963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D7F52-BE7E-47FF-94D4-C98321E4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42E-7874-4045-B6E0-C3F1759E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4E45B-24A1-4E28-8EAF-B75FD8F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F57B8-0628-42C3-82BB-5E1AD9E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DE49-25D7-4FFA-8B4E-12E250CD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4D68-D9C3-4991-B548-604BCFD6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8204-911B-42CB-A5AE-C101CE6A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6745-05F9-451E-87C3-1CD28EE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DEE4-3B20-4EFB-8D11-CA2FF02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6356-7CE8-4D44-B980-5795B82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55B0-9FE3-41E8-A565-2768232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6C88-A532-42F0-84BF-10579302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93A-9B38-4410-B622-C804A9D4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155A-081B-4740-AAB8-CAB8DF4D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8FFF-35A8-4573-ACCA-18B6309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7DE6-3664-40BF-9AED-F119632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A1FD-C242-4433-AA5B-64C0E3F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FB73-81F5-4DB0-81BD-72A7604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32CC-38CE-4141-8C4B-2987D4B1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FA99-6D2D-4FF0-B8FC-4AC2C3D0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CAD6-5129-402D-AE6E-3B543124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185A-C743-4929-961F-F7346AE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F166-2217-450B-A7E2-C29B67F9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099-61B9-4DD8-A428-B2C2128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EFD8-3E4C-4E45-92C8-03DC5FCC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DDCE-F425-4A0E-96AA-ECE77D82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0900-CD64-4886-8528-74CB5CB4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907A-49A0-4027-ACE9-2C9766E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A74D-5568-4EA2-957E-92D8C3D3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985A-13AD-438D-9EF7-3035B43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FBF5-EE77-4679-A353-BDEF861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E493-F1F2-4999-8F32-F53020A4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DE64-629D-49DC-9371-02EF2488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7E7D-100C-425C-8202-F1BB7AFE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2E8-CE30-434A-8E99-B0FF04C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CF01-9379-4696-A00A-EF432AB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3CFB-0FDB-476A-966D-467CFD49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C905-2662-4DA2-A4C4-D1DB4F5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94DD-66D6-4752-AE81-341AE7F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86AE-8D53-4CBD-AA48-A76C722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95A6-2E61-4B76-ADAE-FF20902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EACE-D554-4486-9CF9-75991CC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E174-E36B-4DAC-88FD-00AE105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7A4B-F6BA-4652-8C13-98E8243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497B-AB0A-4351-91D1-EF60FAA3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4A0-E82E-466B-88FB-B3A62A1C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4D0E-4467-4656-981C-E702F4C1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0D98-D932-46FF-AB0A-123734C8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E4B2-B07C-4B43-B52C-9A7B79F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81B6-B4BF-4E30-A390-E2C0FA1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EEDE-15AB-4893-B7F6-5280887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03B3-F394-4F7A-BC46-9BA8E40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01CD-3F0E-4D0D-A5BA-46345E5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CDE5-EBDC-4BDA-9A39-8CD7144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AE7D-1813-48B0-835A-96DF195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81D1-857C-42DA-AEE4-3AC358F3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114-BED2-4621-A938-152F7BD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CAB4-3F67-4B28-A8A2-1AB7111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03EF-3EA5-48E7-9EA3-9617BF5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FE20-205D-4613-85DF-FB48E44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AD38-2EF2-4300-AF90-6E97B6C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2328-8D81-4643-A9B2-43F552AF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E8C7-57B6-4B69-9F7E-3CDE8E82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6616-7343-414C-96A5-996FE53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3DCE1-951A-46A0-8DC5-5437F64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32DA-6CF8-4A17-9D3B-9DDD442B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C117-7EC0-4849-B549-70C6F54A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0A4-0EF2-4CED-91D1-80F549B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A0BC6-5924-4513-81CA-EC9936B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32140-9812-45B1-A4EC-30F5D09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B29B4-CCF5-4CE7-91A9-56FB985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FB8B-E67E-475C-B2A5-9B54B49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DE34-3B2E-4DA3-80F1-7BBA01C6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0131-DDEA-4D6F-891E-9448A274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F9E6-B544-4912-AABF-62158DD5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19EC3-7B52-491E-87DF-A1CF1B1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BAF6-A0EA-4E40-AE0F-24BC333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6B1BF-0BD5-4340-8AF5-F756E91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F77-9978-4D62-9A16-8AB3BBC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1E39D-DC5B-4AAA-BFCE-B486C8A9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7C3A-8E56-4A8E-B703-00A83AA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65385-FFC8-4FE4-94E3-BDEF3E5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523AE-BECB-48EC-B40B-2B6B76D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C2F61-3A48-4559-B748-D1B16CA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70EA-8078-4460-8CEF-224271E3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3A8C-4A3D-4C41-A82E-2D175CB9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D4627-BE4B-4F71-846A-6D5CBA59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B7DF-0F37-42D0-BB43-CD128BB9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DED0-2608-4269-904D-1525670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88A-B96F-4078-9663-D5FD37AD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0009-6AAF-47F7-9011-98F00A50C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4518-ABBA-4DF5-A2B7-7792A58F22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B314-A007-4D6A-8FDC-428208F4ED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3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6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055B-9D70-4901-8A9A-CC7D2DBADE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1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1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E9B-D244-41D0-B52D-BEF77C05B5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DB9-079F-483B-B718-212935D88C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9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1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3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237-A7D8-4C67-B401-449EA830F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C2F-FE63-426B-8AF3-96C5D6E0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DA95-8322-4D72-BF60-8129AB4473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6414-DF69-411B-BF36-8FF3ED3EB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2B6-59ED-4A65-A402-A6AF54D24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1C5C-E7B3-44E7-B508-9B9884C90C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07A5-3A7B-4FD8-B5E3-4B1340CD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7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B54F-0E2D-45EA-B5CF-47E3D9AB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A27-4E7A-4C46-87CA-00621642C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68360" y="765000"/>
            <a:ext cx="867564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ИЧ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432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0" y="1193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Цель уро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ься планировать доходы и рас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онять важность постоянной работы по ведению семейной бухгал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знакомиться с возможностями информационных технологий в домашней эконом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Тема: Семейная бухгалтер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Основные понят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мейная бухгалтерия, дефицит бюджета, планирование бюджета, семейная бухгалте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Бюджет семьи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0" y="1700280"/>
            <a:ext cx="9144000" cy="4392360"/>
            <a:chOff x="0" y="1700280"/>
            <a:chExt cx="9144000" cy="4392360"/>
          </a:xfrm>
        </p:grpSpPr>
        <p:sp>
          <p:nvSpPr>
            <p:cNvPr id="1107" name=""/>
            <p:cNvSpPr/>
            <p:nvPr/>
          </p:nvSpPr>
          <p:spPr>
            <a:xfrm>
              <a:off x="4029480" y="2578680"/>
              <a:ext cx="774720" cy="87840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549800" y="1700280"/>
              <a:ext cx="5889240" cy="17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0" y="3457080"/>
              <a:ext cx="3099600" cy="263556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Дох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34440" y="1700280"/>
              <a:ext cx="3409560" cy="322092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Расх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Бюджет семьи Ивановых на август 2001г. </a:t>
            </a:r>
            <a:br>
              <a:rPr sz="8800"/>
            </a:b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(в рублях)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2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492360"/>
                <a:gridCol w="1150920"/>
                <a:gridCol w="3457800"/>
                <a:gridCol w="10429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Источники доход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ум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Планируемые расх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ум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.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Зар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я Алексееви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ьги Петров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Социальные плате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сия  Татьяны Васильев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Предпринимательский</a:t>
                      </a:r>
                      <a:r>
                        <a:rPr b="0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льги Петровны за машинописны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V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Натуральный до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ято из погреба выращенных на участке овощ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 Проце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банковскому вкла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Доход по облигация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.Постоя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квартир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коммунальные услу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питание детей в шко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ая школа (Андр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п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бытовую хим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проезд в транспор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храну шко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.</a:t>
                      </a:r>
                      <a:r>
                        <a:rPr b="1" lang="ru-RU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Перем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вь (сапоги Свет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ежда (куртка Юрию Алексеевич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писка на газеты и журналы на следую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еокасс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ки и кисти (Андрею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монт зимней обу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3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2843280"/>
                <a:gridCol w="1512720"/>
                <a:gridCol w="3240360"/>
                <a:gridCol w="1547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Источ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доход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Планируем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расход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сего расходо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анируем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бережен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окупный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о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сего расходов и сбереже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Бюджет семьи Ивановых на август 2001г.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(продолжение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ial Black"/>
              </a:rPr>
              <a:t>C</a:t>
            </a:r>
            <a:r>
              <a:rPr b="0" lang="ru-RU" sz="7200" spc="-1" strike="noStrike">
                <a:solidFill>
                  <a:srgbClr val="ffffb7"/>
                </a:solidFill>
                <a:latin typeface="Arial Black"/>
              </a:rPr>
              <a:t>труктура семейного бюджета </a:t>
            </a:r>
            <a:r>
              <a:rPr b="1" lang="ru-RU" sz="7200" spc="-1" strike="noStrike">
                <a:solidFill>
                  <a:srgbClr val="ffffb7"/>
                </a:solidFill>
                <a:latin typeface="Arial Black"/>
              </a:rPr>
              <a:t>(примерная)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3689280"/>
                <a:gridCol w="882720"/>
                <a:gridCol w="3692520"/>
                <a:gridCol w="879480"/>
              </a:tblGrid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ПРОЦЕНТАХ К ОБЩЕМУ ДОХОДУ СЕМЬ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Е РАС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ПРОЦЕНТАХ К ОБЩИМ РАСХОДАМ СЕМЬИ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членов сем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, стипендии, пособ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от личного подсобног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других источ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ые платежи, сборы, налоги, оплата квартиры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епродовольственные товары: обувь, мебель, предметы домашнего оби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ультурно-бытовые услуги (кино, театр, музей и т.д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опления, сбере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92476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Инструкция по выполнению практической работы –</a:t>
            </a:r>
            <a:br>
              <a:rPr sz="3400"/>
            </a:b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Определение структуры бюджета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773360"/>
            <a:ext cx="88804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ертить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вую колонку записать виды доходов и их величину (в рубля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ретью колонку записать виды расходов и их величину (в рублях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читать процент каждого вида доходов от их суммы и внести результат в колон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2  (%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читать процент каждого вида расходов от их суммы и внести результат в колон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4  (%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вните структуру бюджета вашей семьи со среднестатистической структурой по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1:05:18Z</dcterms:created>
  <dc:creator>user</dc:creator>
  <dc:description/>
  <dc:language>en-US</dc:language>
  <cp:lastModifiedBy>user</cp:lastModifiedBy>
  <dcterms:modified xsi:type="dcterms:W3CDTF">2006-12-01T13:25:33Z</dcterms:modified>
  <cp:revision>2</cp:revision>
  <dc:subject/>
  <dc:title> </dc:title>
</cp:coreProperties>
</file>